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move the slide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8409-D735-4895-B85B-554B9F568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C14-E965-46D7-A817-AC64F059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A49-02A2-450B-BD4C-6D78E41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E6A-93E6-4FD3-9A7A-DB0FB54F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373-DEB3-49E8-8E3D-05378FE9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EEB-8D36-4454-9B5A-006353CC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43D-246F-4DF6-B8FA-52A83138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C21-37CF-4220-9EA3-D195F57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9043-FE67-4EDC-857C-55786F3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484-F6E7-400A-91A6-E8ACDA75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4AA-E3C1-4EF5-98DA-1A98CBDA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E441-18A0-429A-A7F2-056A852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0F6-F81D-4893-A959-333BFD18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427-BB8F-44BC-BCDA-B5E83D2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EF34-A937-4DAF-8902-D786E83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241-22CF-4E13-9CFC-4A9E6EB9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89F6-B07E-4520-ADD1-AFAAC7A6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ACC-FC3B-426B-B7CF-D1106E46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2B3-8C79-4FDB-BC02-4D0FD37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A94-2A9A-471C-8544-2223CF2C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C1-A4C8-4CFE-AC07-871014A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AF5-E29C-4E49-BE11-A91B0E3C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8D1-77F8-45A4-AA25-5515CCB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F4C-D928-4D7B-8FD5-DE58E7A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4F1-27E9-4C45-B315-C90861C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309-A06E-45E6-AAA6-EC3DCAA7EF3E}" type="slidenum">
              <a:rPr b="0" lang="fr-FR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0F06-AF67-48F0-8B08-F7E753EA7A40}" type="slidenum">
              <a:rPr b="0" lang="de-DE" sz="1400" spc="-1" strike="noStrike">
                <a:solidFill>
                  <a:srgbClr val="000000"/>
                </a:solidFill>
                <a:latin typeface="Copperplate Gothic Light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95480" y="618804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4491000"/>
            <a:ext cx="0" cy="16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192720" y="4491000"/>
            <a:ext cx="119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92720" y="3987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92720" y="398772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091280" y="2590920"/>
            <a:ext cx="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92560" y="259092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92920" y="259092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038840" cy="3067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838080"/>
            <a:ext cx="3352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Se rendre au grand chêne. De là, parcouri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45 m vers l’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. Ensuite, march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17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, puis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12 m vers l’ou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5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. Par la suite, parcouri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9 m vers l’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14 m vers le nor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. En fin,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marcher 2 m vers l’ouest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 e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Handwriting - Dakota"/>
                <a:ea typeface="ヒラギノ角ゴ Pro W3"/>
              </a:rPr>
              <a:t>6 m vers le sud</a:t>
            </a:r>
            <a:r>
              <a:rPr b="0" lang="fr-FR" sz="1600" spc="-1" strike="noStrike">
                <a:solidFill>
                  <a:srgbClr val="000000"/>
                </a:solidFill>
                <a:latin typeface="Handwriting - Dakota"/>
                <a:ea typeface="ヒラギノ角ゴ Pro W3"/>
              </a:rPr>
              <a:t>. C’est à cet endroit que le trésor se trou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54864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61722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4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51814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1148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1148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65760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0481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2860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2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3733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Voici donc la distance en ligne droite du grand chêne au trés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95480" y="3190680"/>
            <a:ext cx="3997440" cy="29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5480" y="618804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4495680"/>
            <a:ext cx="0" cy="16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192720" y="4491000"/>
            <a:ext cx="119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192720" y="3987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2720" y="398772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091280" y="2590920"/>
            <a:ext cx="0" cy="139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92560" y="259092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92920" y="2590920"/>
            <a:ext cx="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09680" y="54864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00600" y="61722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4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51814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7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11480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65760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0481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ndwriting - Dakota"/>
              </a:rPr>
              <a:t>1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2286000"/>
            <a:ext cx="1143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ndwriting - Dakota"/>
              </a:rPr>
              <a:t>2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666880"/>
            <a:ext cx="1143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andwriting - Dakota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0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895480" y="3190680"/>
            <a:ext cx="3997440" cy="29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Étapes de la résolution du problè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83808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</a:rPr>
              <a:t>Étap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Identifier le triangle rectangle permettant de trouver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61722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858000" y="32004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95480" y="3225600"/>
            <a:ext cx="396252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28800"/>
            <a:ext cx="525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</a:rPr>
              <a:t>Étape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Trouver les mesures de la base et de la hauteur du nouveau tri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5791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+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5791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-2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486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L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4038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La hau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582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4343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+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240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-6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4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8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evt="end">
                                        <p:tn val="241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1000"/>
                            </p:stCondLst>
                            <p:childTnLst>
                              <p:par>
                                <p:cTn id="2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9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3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6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09680" y="5486400"/>
            <a:ext cx="671760" cy="1057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546880" y="23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553080" y="32004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Étapes de la résolution du problè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76212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</a:rPr>
              <a:t>Étap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Identifier le triangle rectangle permettant de trouver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61722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3200400"/>
            <a:ext cx="0" cy="299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5480" y="3225600"/>
            <a:ext cx="3962520" cy="29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752480"/>
            <a:ext cx="525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</a:rPr>
              <a:t>Étape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Trouver les mesures de la base et de la hauteur du nouveau tri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743200"/>
            <a:ext cx="52578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halkboard"/>
              </a:rPr>
              <a:t>Étape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</a:rPr>
              <a:t>À l’aide de la relation de Pythagore, trouver la mesure de l'hypoténuse, soit la distance en ligne droite du grand chêne au tré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114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mesure de l’hypoténus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28600" y="4572000"/>
                <a:ext cx="16002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0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52480" y="4616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ure de l’hypoté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029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ure de l’hypotén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029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37160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La distance en ligne droite du grand chêne au trésor est donc d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halkboard"/>
              </a:rPr>
              <a:t>50 mètres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838080"/>
            <a:ext cx="609480" cy="762120"/>
          </a:xfrm>
          <a:prstGeom prst="uturnArrow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6:44:28Z</dcterms:created>
  <dc:creator>LAMISS</dc:creator>
  <dc:description/>
  <dc:language>en-US</dc:language>
  <cp:lastModifiedBy>LAMISS</cp:lastModifiedBy>
  <dcterms:modified xsi:type="dcterms:W3CDTF">2008-04-03T16:39:38Z</dcterms:modified>
  <cp:revision>34</cp:revision>
  <dc:subject/>
  <dc:title>Présentation PowerPoint</dc:title>
</cp:coreProperties>
</file>